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his%20is%20Jeopardy.wav" ContentType="audio/x-wav"/>
  <Override PartName="/ppt/media/image3.wmf" ContentType="image/x-wmf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F20C-595A-46BD-AA65-E9C8544F8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B4AD-13E0-497B-A3DD-0F04EDCE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0C94-9BBA-40EA-8AB1-D0AC382B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4FF3-7B81-4A4F-9C7E-81F366E67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B00B-1638-405D-BDAD-0291A3A9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BC4B-08E8-4C9E-AEE1-61B031A2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E54A-889C-41E0-AF19-795A0E84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F549-923E-48AA-BF1C-6A809C82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9F18-7659-4F2D-9512-7B5D7FE06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1219-C03D-4355-A5B9-A60C6209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8932-681F-4824-8638-C1336E6B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9BCF-AED0-4841-A8D3-4FCDA116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858A-586B-4235-A237-6A94A2C63D59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audio" Target="../media/This%20is%20Jeopardy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29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4.xml"/><Relationship Id="rId5" Type="http://schemas.openxmlformats.org/officeDocument/2006/relationships/slide" Target="slide5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" Target="slide8.xml"/><Relationship Id="rId9" Type="http://schemas.openxmlformats.org/officeDocument/2006/relationships/slide" Target="slide9.xml"/><Relationship Id="rId10" Type="http://schemas.openxmlformats.org/officeDocument/2006/relationships/slide" Target="slide14.xml"/><Relationship Id="rId11" Type="http://schemas.openxmlformats.org/officeDocument/2006/relationships/slide" Target="slide19.xml"/><Relationship Id="rId12" Type="http://schemas.openxmlformats.org/officeDocument/2006/relationships/slide" Target="slide24.xml"/><Relationship Id="rId13" Type="http://schemas.openxmlformats.org/officeDocument/2006/relationships/slide" Target="slide10.xml"/><Relationship Id="rId14" Type="http://schemas.openxmlformats.org/officeDocument/2006/relationships/slide" Target="slide15.xml"/><Relationship Id="rId15" Type="http://schemas.openxmlformats.org/officeDocument/2006/relationships/slide" Target="slide20.xml"/><Relationship Id="rId16" Type="http://schemas.openxmlformats.org/officeDocument/2006/relationships/slide" Target="slide25.xml"/><Relationship Id="rId17" Type="http://schemas.openxmlformats.org/officeDocument/2006/relationships/slide" Target="slide11.xml"/><Relationship Id="rId18" Type="http://schemas.openxmlformats.org/officeDocument/2006/relationships/slide" Target="slide12.xml"/><Relationship Id="rId19" Type="http://schemas.openxmlformats.org/officeDocument/2006/relationships/slide" Target="slide13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slide" Target="slide26.xml"/><Relationship Id="rId23" Type="http://schemas.openxmlformats.org/officeDocument/2006/relationships/slide" Target="slide17.xml"/><Relationship Id="rId24" Type="http://schemas.openxmlformats.org/officeDocument/2006/relationships/slide" Target="slide22.xml"/><Relationship Id="rId25" Type="http://schemas.openxmlformats.org/officeDocument/2006/relationships/slide" Target="slide27.xml"/><Relationship Id="rId26" Type="http://schemas.openxmlformats.org/officeDocument/2006/relationships/slide" Target="slide18.xml"/><Relationship Id="rId27" Type="http://schemas.openxmlformats.org/officeDocument/2006/relationships/slide" Target="slide23.xml"/><Relationship Id="rId28" Type="http://schemas.openxmlformats.org/officeDocument/2006/relationships/slide" Target="slide28.xml"/><Relationship Id="rId29" Type="http://schemas.openxmlformats.org/officeDocument/2006/relationships/slide" Target=""/><Relationship Id="rId30" Type="http://schemas.openxmlformats.org/officeDocument/2006/relationships/image" Target="../media/image2.png"/><Relationship Id="rId31" Type="http://schemas.openxmlformats.org/officeDocument/2006/relationships/slide" Target=""/><Relationship Id="rId3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is%20is%20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1295280"/>
            <a:ext cx="769608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9933"/>
                </a:solidFill>
                <a:latin typeface="Times New Roman"/>
              </a:rPr>
              <a:t>The part of an atom that contains protons and neutrons.</a:t>
            </a:r>
            <a:endParaRPr b="0" lang="en-US" sz="6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1066680"/>
            <a:ext cx="79246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9933"/>
                </a:solidFill>
                <a:latin typeface="Times New Roman"/>
              </a:rPr>
              <a:t>The negatively charged part of an atom.</a:t>
            </a:r>
            <a:endParaRPr b="0" lang="en-US" sz="6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6002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 am known as the  father of the periodic tabl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90512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Law of Conservation of Mas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1828800"/>
            <a:ext cx="792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 provide students with a common experience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3716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I get student's minds focused on the topic through a short question or a picture.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447920"/>
            <a:ext cx="7925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This portion of the lesson is where the concepts are taught and clarified.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752480"/>
            <a:ext cx="807696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9933"/>
                </a:solidFill>
                <a:latin typeface="Times New Roman"/>
              </a:rPr>
              <a:t>During this portion of the lesson, students apply the information learned during the Explain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. 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828800"/>
            <a:ext cx="80769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9933"/>
                </a:solidFill>
                <a:latin typeface="Times New Roman"/>
              </a:rPr>
              <a:t>I am used to assess whether students have learned the concept.</a:t>
            </a:r>
            <a:endParaRPr b="0" lang="en-US" sz="5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838080"/>
            <a:ext cx="784872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9933"/>
                </a:solidFill>
                <a:latin typeface="Times New Roman"/>
              </a:rPr>
              <a:t>A swimming pool is 30 feet long, 15 feet wide, and 8 feet deep.  The owner wants a pool cover that will keep the dirt and leaves out of the water.  The cover must be large enough to cover an area of…</a:t>
            </a: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609480"/>
            <a:ext cx="7848720" cy="71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9933"/>
                </a:solidFill>
                <a:latin typeface="Times New Roman"/>
              </a:rPr>
              <a:t>Mrs. O’Dell-Thomas wants to buy grass seed for a rectangular area that measures 8.5 meters by 5.5 meters.  One package of grass seed  will cover 10 square meters.  How many whole packages of grass seed should Mrs. O’Dell-Thomas buy to cover the area?</a:t>
            </a:r>
            <a:endParaRPr b="0" lang="en-US" sz="4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762120"/>
            <a:ext cx="76197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9933"/>
                </a:solidFill>
                <a:latin typeface="Times New Roman"/>
              </a:rPr>
              <a:t>A flagpole stands in the exact center of a circular plaza.  The distance from the flagpole to the outer edge of the plaza is 20 feet. What is the approximate area of the plaza?</a:t>
            </a: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609480"/>
            <a:ext cx="815328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9933"/>
                </a:solidFill>
                <a:latin typeface="Times New Roman"/>
              </a:rPr>
              <a:t>A prism and a pyramid have congruent bases and the same height.  What is the ratio of the volume of the pyramid to the prism?</a:t>
            </a:r>
            <a:endParaRPr b="0" lang="en-US" sz="46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838080"/>
            <a:ext cx="792504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9933"/>
                </a:solidFill>
                <a:latin typeface="Times New Roman"/>
              </a:rPr>
              <a:t>A cylindrical oatmeal container with a radius of 4 centimeters and a height of 11 centimeters is half filled with oatmeal.  What is the volume of the oatmeal in the container?</a:t>
            </a: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167652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685800"/>
            <a:ext cx="7848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33"/>
                </a:solidFill>
                <a:latin typeface="Times New Roman"/>
              </a:rPr>
              <a:t>An artist made a drawing of a house  with a tree next to it.  The drawing is the size of the actual house and tree.  The tallest point of the house is 12 feet and 8 inches, and the tree is 27 feet tall.  How many inches tall is the tree in the drawing?</a:t>
            </a: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593640"/>
            <a:ext cx="7848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9933"/>
                </a:solidFill>
                <a:latin typeface="Times New Roman"/>
              </a:rPr>
              <a:t>A class consists of 8 freshmen  and 22 sophomores.  Freshmen had an average of x points, while sophomores had an average of y points.  Write an expression  that gives the average test score per student for the entire class.</a:t>
            </a: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534520" y="1219320"/>
            <a:ext cx="228600" cy="48765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29528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9933"/>
                </a:solidFill>
                <a:latin typeface="Times New Roman"/>
              </a:rPr>
              <a:t>Jake’s square backyard covers</a:t>
            </a: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9933"/>
                </a:solidFill>
                <a:latin typeface="Times New Roman"/>
              </a:rPr>
              <a:t>an area of 104 square meters.</a:t>
            </a: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9933"/>
                </a:solidFill>
                <a:latin typeface="Times New Roman"/>
              </a:rPr>
              <a:t>How can Jake best determine </a:t>
            </a: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9933"/>
                </a:solidFill>
                <a:latin typeface="Times New Roman"/>
              </a:rPr>
              <a:t>the length of each side of his</a:t>
            </a: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9933"/>
                </a:solidFill>
                <a:latin typeface="Times New Roman"/>
              </a:rPr>
              <a:t>backyard?  </a:t>
            </a: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24382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38080" y="16002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When y = x</a:t>
            </a:r>
            <a:r>
              <a:rPr b="1" lang="en-US" sz="5400" spc="-1" strike="noStrike" baseline="30000">
                <a:solidFill>
                  <a:srgbClr val="ff9933"/>
                </a:solidFill>
                <a:latin typeface="Times New Roman"/>
              </a:rPr>
              <a:t>3</a:t>
            </a: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, what is equivalent to x</a:t>
            </a:r>
            <a:r>
              <a:rPr b="1" lang="en-US" sz="5400" spc="-1" strike="noStrike" baseline="30000">
                <a:solidFill>
                  <a:srgbClr val="ff9933"/>
                </a:solidFill>
                <a:latin typeface="Times New Roman"/>
              </a:rPr>
              <a:t>12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762120"/>
            <a:ext cx="7848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9933"/>
                </a:solidFill>
                <a:latin typeface="Times New Roman"/>
              </a:rPr>
              <a:t>Wayne wanted to buy a new </a:t>
            </a: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9933"/>
                </a:solidFill>
                <a:latin typeface="Times New Roman"/>
              </a:rPr>
              <a:t>bicycle that cost $125.  The sales tax on the bicycle was $11.25.  What was the rate of the sales tax?</a:t>
            </a: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18288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Let’s get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Physica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54864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Wow what a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Figu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734364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Alge “BRA”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4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34364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864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4364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8288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4364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4364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76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4364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">
            <a:hlinkClick r:id="rId29" action="ppaction://hlinksldjump"/>
          </p:cNvPr>
          <p:cNvSpPr/>
          <p:nvPr/>
        </p:nvSpPr>
        <p:spPr>
          <a:xfrm>
            <a:off x="36576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egagog “E”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0"/>
          <a:stretch/>
        </p:blipFill>
        <p:spPr>
          <a:xfrm>
            <a:off x="6858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31" action="ppaction://hlinksldjump"/>
          </p:cNvPr>
          <p:cNvSpPr/>
          <p:nvPr/>
        </p:nvSpPr>
        <p:spPr>
          <a:xfrm>
            <a:off x="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Mother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Natur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la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137160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33"/>
                </a:solidFill>
                <a:latin typeface="Times New Roman"/>
              </a:rPr>
              <a:t>Father of the Genetics?</a:t>
            </a:r>
            <a:endParaRPr b="0" lang="en-US" sz="5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1573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1573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31573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2133720"/>
            <a:ext cx="7848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ff9933"/>
                </a:solidFill>
                <a:latin typeface="Times New Roman"/>
              </a:rPr>
              <a:t>What is a hypothesis?</a:t>
            </a:r>
            <a:endParaRPr b="0" lang="en-US" sz="75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scientific inquiry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goggle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observation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data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atom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scientific inquiry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safety goggle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observation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21337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 theory that needs to be tested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data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are atom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nucleu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an electro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o is Demitir Mendeleev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matter can neither be created or destroyed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Explor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Engag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Explain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Elaborat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1600200"/>
            <a:ext cx="7467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33"/>
                </a:solidFill>
                <a:latin typeface="Times New Roman"/>
              </a:rPr>
              <a:t>The use of scientific methods, critical thinking and scientific problem solving to make informed decisions.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the Evaluate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450 square feet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5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1256 square feet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1:3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88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705720" y="2286000"/>
          <a:ext cx="1752480" cy="8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2286000"/>
                    <a:ext cx="17524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18 inches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2133720"/>
            <a:ext cx="78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8x+22y 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          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30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581280"/>
            <a:ext cx="3429000" cy="0"/>
          </a:xfrm>
          <a:prstGeom prst="line">
            <a:avLst/>
          </a:prstGeom>
          <a:ln w="540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91440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find the square root of the area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y</a:t>
            </a:r>
            <a:r>
              <a:rPr b="1" lang="en-US" sz="7200" spc="-1" strike="noStrike" baseline="30000">
                <a:solidFill>
                  <a:srgbClr val="ff9933"/>
                </a:solidFill>
                <a:latin typeface="Times New Roman"/>
              </a:rPr>
              <a:t>4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609480"/>
            <a:ext cx="74674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Safety equipment used to protect the eyes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hat is 9%?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inal Question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5238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use of the senses to describe an experiment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144792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Times New Roman"/>
              </a:rPr>
              <a:t>Information that is gathered while performing an experiment.</a:t>
            </a:r>
            <a:endParaRPr b="0" lang="en-US" sz="6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60948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smallest particle of matter that has the properties of the element.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HISD</cp:lastModifiedBy>
  <dcterms:modified xsi:type="dcterms:W3CDTF">2009-01-27T18:24:17Z</dcterms:modified>
  <cp:revision>41</cp:revision>
  <dc:subject/>
  <dc:title>No Slide Title</dc:title>
</cp:coreProperties>
</file>